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A34-0B15-4230-9A55-AE598D64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F413-102B-411A-88CB-36E93299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1EE-B978-4B08-9A00-E3D35F29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AA93-0689-4D5D-AAA8-B795EDBA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9B8C-61FC-4D07-B633-D94E6E92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0EE8-A1B4-4E87-B390-6F23D569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EF5B-67B9-4C1D-A44A-1F1118DC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1BCD-1A64-489A-9017-E9E9FE82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4929-4C97-4B54-8222-11B25E45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772E-A718-4655-BFC1-37FE9822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C4EB-6EBF-4EA7-BDB7-33A0C5DC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12A-3DBD-4E75-9D6E-913E4B8A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551D-17F1-44CE-82FE-668E3627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C67C-5C3E-466E-BECC-54F07307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5F28-1FF6-4839-B1D5-49FDFF83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9CC1-7D56-41B2-A7A3-51E77021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1332-CE04-468A-8EBC-FEDD3C4B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D1A-4AD5-423A-875E-7B697D80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C6B-70A9-474D-B2C0-0E902BFE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D0D-2A25-4B77-B7F5-B93ED7B0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359-15D9-4165-A7BE-8A799EB1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6D49-ACE9-4470-B2DB-DCC9BA7C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956-2AF8-47B2-819D-78751D63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E25-8BB8-4200-AE2A-EA84594F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213C-1FB0-4B1D-9257-15CBD6BAC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4DDD-7217-4AB2-ACBC-5225B21E372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nglish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ept. 10-Freshme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O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o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Ques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mework Assignm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O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elly’s t-shirt has the latin phrase cave canem (beware of the dog) and pictures of these three well known dogs a german sheperd an english sheepdog and a beagl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ucleus:Atom::sun:_________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aker:Oven::________:Kil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c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tting-Where the action of the story takes plac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od-the author’s attitude towards his writing and the reader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ne-the general atmosphere of a stor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mework Writing assign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 our new story the setting is like another characte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Your assignment is to write a 2 paragraph story in which your first line is thi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 a dark and stormy night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ocus on creating sett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3:14:39Z</dcterms:created>
  <dc:creator>VMS</dc:creator>
  <dc:description/>
  <dc:language>en-US</dc:language>
  <cp:lastModifiedBy>Angie McCall</cp:lastModifiedBy>
  <dcterms:modified xsi:type="dcterms:W3CDTF">2012-09-10T20:40:59Z</dcterms:modified>
  <cp:revision>10</cp:revision>
  <dc:subject/>
  <dc:title>English</dc:title>
</cp:coreProperties>
</file>